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3C63-2129-490F-B9C5-18DFB7C7F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159F-F7DE-4A42-AF84-3F94E639A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Jennifer Timpone-Goldstein</a:t>
            </a:r>
            <a:r>
              <a:rPr b="0" lang="en-US" sz="1200" spc="-1" strike="noStrike">
                <a:solidFill>
                  <a:srgbClr val="c00000"/>
                </a:solidFill>
                <a:latin typeface="Arial"/>
              </a:rPr>
              <a:t>. </a:t>
            </a:r>
            <a:r>
              <a:rPr b="0" lang="en-US" sz="1200" spc="-1" strike="noStrike">
                <a:solidFill>
                  <a:srgbClr val="000000"/>
                </a:solidFill>
                <a:latin typeface="Arial"/>
              </a:rPr>
              <a:t>I  am going to present my presentation on Collaborative Team Teaching, and the effects it may have on student’s learn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FA5B-A568-4D71-830C-9271D33E9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is the saying “Two heads are better then one true? Do students benefit more academically with two teachers in the classroom?</a:t>
            </a:r>
            <a:endParaRPr b="0" lang="en-US" sz="9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4394-79B9-4DE3-B3DA-21A79E6DE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DFA6-FF6E-4E89-8742-33D41EAD6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BDBB-E929-42B4-A439-888278437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76E-9D26-4B1E-8587-4238EF792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6F14-06B0-4900-A8B5-3011781BA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D61A0-B426-49A9-92C0-E87C7D80E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FAA47-D5DB-41AC-B62F-40829CA95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13E5-C0E8-481E-8A2C-46C6DB691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DBE07-4773-429B-B470-EBAC3CD8C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AE2D1-DCFB-4191-8600-A7540A83B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1F14F-0A2C-474E-91C1-8E1355CAF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949C2-B043-41B2-BA86-1958A1CD2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8B65F-D77B-4770-AC48-A06BF788E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083FC-1A9A-4E80-AF80-8BB6B3AB3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97927-09F8-4F44-9BE0-0D3A190B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B0489-F609-454E-8594-5960E9F6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E6CED-7C4F-4CA9-AA25-A833533C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0085D-4DB4-4659-B979-73F038FF1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8F2A8-3F3B-4B59-94F3-270C55C1D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054AB-5B24-48BA-83D3-BC87BDBA6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A4EF5-0B5A-4DDD-AA1C-C740ADF99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519D3-4D3F-4C32-811E-682A4D02A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15FF-636D-4D18-8C60-BCEB61F2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A103A-FE49-4FBF-A2F5-F7C05D282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9664B-B393-4620-8225-B383BCBB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186E2-1FE0-4F33-B473-7C2B90672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D98A-41AB-4432-A30D-EB29F59E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C4DB-7CF3-4E17-9AD8-C8A4978F1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ECE1-0A98-4C4B-83C3-35B496A38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9888-700C-4BE2-9E06-A6C47C554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6EED-DE41-4532-8806-4AD4F954F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185720" y="4043520"/>
            <a:ext cx="3637080" cy="1645920"/>
          </a:xfrm>
          <a:prstGeom prst="rect">
            <a:avLst/>
          </a:prstGeom>
          <a:noFill/>
          <a:ln w="0">
            <a:noFill/>
          </a:ln>
        </p:spPr>
        <p:txBody>
          <a:bodyPr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sented by:</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Jennifer Timpone-Goldstein</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D 702.22</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Fall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2"/>
          <p:cNvSpPr>
            <a:spLocks noGrp="1"/>
          </p:cNvSpPr>
          <p:nvPr>
            <p:ph type="title"/>
          </p:nvPr>
        </p:nvSpPr>
        <p:spPr>
          <a:xfrm>
            <a:off x="731880" y="914040"/>
            <a:ext cx="7477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ienne"/>
              </a:rPr>
              <a:t>Collaborative Team Teaching: Does it Effect the Way a Child Learns?</a:t>
            </a:r>
            <a:endParaRPr b="1" lang="en-US" sz="5400" spc="-1" strike="noStrike">
              <a:solidFill>
                <a:srgbClr val="006666"/>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792000"/>
            <a:ext cx="7010640" cy="81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6666"/>
                </a:solidFill>
                <a:latin typeface="Amienne"/>
              </a:rPr>
              <a:t>Table of contents</a:t>
            </a:r>
            <a:endParaRPr b="1" lang="en-US" sz="6500" spc="-1" strike="noStrike">
              <a:solidFill>
                <a:srgbClr val="006666"/>
              </a:solidFill>
              <a:latin typeface="Tahoma"/>
            </a:endParaRPr>
          </a:p>
        </p:txBody>
      </p:sp>
      <p:sp>
        <p:nvSpPr>
          <p:cNvPr id="92" name="PlaceHolder 2"/>
          <p:cNvSpPr>
            <a:spLocks noGrp="1"/>
          </p:cNvSpPr>
          <p:nvPr>
            <p:ph/>
          </p:nvPr>
        </p:nvSpPr>
        <p:spPr>
          <a:xfrm>
            <a:off x="1835280" y="1828800"/>
            <a:ext cx="6222960" cy="3332160"/>
          </a:xfrm>
          <a:prstGeom prst="rect">
            <a:avLst/>
          </a:prstGeom>
          <a:noFill/>
          <a:ln w="0">
            <a:noFill/>
          </a:ln>
        </p:spPr>
        <p:txBody>
          <a:bodyPr anchor="t">
            <a:normAutofit/>
          </a:bodyPr>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trac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ntroduction</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Problem</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Review of Related Literature</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Hypothesis</a:t>
            </a:r>
            <a:endParaRPr b="0" lang="en-US" sz="24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Statement of the Problem</a:t>
            </a:r>
            <a:endParaRPr b="1" lang="en-US" sz="7200" spc="-1" strike="noStrike">
              <a:solidFill>
                <a:srgbClr val="006666"/>
              </a:solidFill>
              <a:latin typeface="Tahoma"/>
            </a:endParaRPr>
          </a:p>
        </p:txBody>
      </p:sp>
      <p:sp>
        <p:nvSpPr>
          <p:cNvPr id="94" name=""/>
          <p:cNvSpPr txBox="1"/>
          <p:nvPr/>
        </p:nvSpPr>
        <p:spPr>
          <a:xfrm>
            <a:off x="1636200" y="1239840"/>
            <a:ext cx="6742440" cy="4470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Maiandra GD"/>
              </a:rPr>
              <a:t>Collaborative teaching is used in many New York Schools to foster student enthusiasm and inquiry, and to promote interdisciplinary learning. (Letterman &amp; Dugan, 2005). The purpose of this study is to investigate the impact of collaborative team teaching (CTT) and the impact it has on student achievement. </a:t>
            </a:r>
            <a:endParaRPr b="0" lang="en-US" sz="24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Review of Literature</a:t>
            </a:r>
            <a:endParaRPr b="1" lang="en-US" sz="7200" spc="-1" strike="noStrike">
              <a:solidFill>
                <a:srgbClr val="006666"/>
              </a:solidFill>
              <a:latin typeface="Tahoma"/>
            </a:endParaRPr>
          </a:p>
        </p:txBody>
      </p:sp>
      <p:sp>
        <p:nvSpPr>
          <p:cNvPr id="96" name=""/>
          <p:cNvSpPr txBox="1"/>
          <p:nvPr/>
        </p:nvSpPr>
        <p:spPr>
          <a:xfrm>
            <a:off x="1636200" y="1190520"/>
            <a:ext cx="7161480" cy="5337360"/>
          </a:xfrm>
          <a:prstGeom prst="rect">
            <a:avLst/>
          </a:prstGeom>
          <a:noFill/>
          <a:ln w="0">
            <a:noFill/>
          </a:ln>
        </p:spPr>
        <p:txBody>
          <a:bodyPr anchor="t">
            <a:normAutofit fontScale="97000"/>
          </a:bodyPr>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With Collaborative Team Teaching (CTT) becoming very popular in many New York City Schools, some research has focused on the advantages and disadvantages  of  having two teachers in the classroom as opposed to one. </a:t>
            </a: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Many schools are doing away with self contained special education classrooms, and opening up more inclusion classrooms with collaborative team teaching. </a:t>
            </a:r>
            <a:r>
              <a:rPr b="0" lang="en-US" sz="2000" spc="-1" strike="noStrike">
                <a:solidFill>
                  <a:srgbClr val="000000"/>
                </a:solidFill>
                <a:latin typeface="Maiandra GD"/>
                <a:ea typeface="Times New Roman"/>
              </a:rPr>
              <a:t>The number of self contained special education classes has decreased due to co-teaching. (Lawton, 2008.) </a:t>
            </a: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    </a:t>
            </a:r>
            <a:r>
              <a:rPr b="0" lang="en-US" sz="2000" spc="-1" strike="noStrike">
                <a:solidFill>
                  <a:srgbClr val="000000"/>
                </a:solidFill>
                <a:latin typeface="Maiandra GD"/>
                <a:ea typeface="Courier New"/>
              </a:rPr>
              <a:t>As a result of the No Child Left Behind Act, it has become important for schools to incorporate more effective means to reach every student in the school. By using inclusion classrooms, special ed and general ed students are brought together with two  certified teachers. This can benefit the students in many ways. (Kholer-Evens, 2006.) </a:t>
            </a: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92000" y="304560"/>
            <a:ext cx="7010280" cy="406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98" name=""/>
          <p:cNvSpPr txBox="1"/>
          <p:nvPr/>
        </p:nvSpPr>
        <p:spPr>
          <a:xfrm>
            <a:off x="1666800" y="1063440"/>
            <a:ext cx="7075440" cy="5082840"/>
          </a:xfrm>
          <a:prstGeom prst="rect">
            <a:avLst/>
          </a:prstGeom>
          <a:solidFill>
            <a:srgbClr val="ffffff"/>
          </a:solidFill>
          <a:ln w="0">
            <a:noFill/>
          </a:ln>
        </p:spPr>
        <p:txBody>
          <a:bodyPr anchor="t">
            <a:normAutofit/>
          </a:bodyPr>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CCT classrooms can have a positive impact on students with learning disabilities who are at risk for not meeting the standards. The students in the CTT class showed improvement in math and self concepts scores. (Fontana, 2005.)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SL students are at an advantage in a CTT setting. An ESL teacher pushes into the class to collaborate with the teacher. This allows lower student-teacher ratios, and a means of providing differentiated instruction. (Hayes, 2007.)</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eam teaching is not something that happens overnight. It takes time. Sometimes it does not always work the way we want it to. Principals need to be supported, and offer assistance when needed in order for it to be successful. (Mansberger, 2005.)</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304560"/>
            <a:ext cx="7010640" cy="48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0" name=""/>
          <p:cNvSpPr txBox="1"/>
          <p:nvPr/>
        </p:nvSpPr>
        <p:spPr>
          <a:xfrm>
            <a:off x="1572840" y="1260000"/>
            <a:ext cx="7272360" cy="4821480"/>
          </a:xfrm>
          <a:prstGeom prst="rect">
            <a:avLst/>
          </a:prstGeom>
          <a:noFill/>
          <a:ln w="0">
            <a:noFill/>
          </a:ln>
        </p:spPr>
        <p:txBody>
          <a:bodyPr anchor="t">
            <a:normAutofit fontScale="95000"/>
          </a:bodyPr>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In order to be successful, teachers must plan and manage the classroom together. They have to attend meetings, share ideas, and model debates, (Leavitt, 2006.) </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ne instructional strategy that needs to be addressed by both teachers is modeling. Vygotsky’s modeling theory implies that teachers should model appropriate behaviors, negotiations, and work well together. The teachers and students both benefit from it. ( Wiley and Crespo , 1998.) </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ne disadvantages in co-teaching is not enough time to plan, having different teaching styles, and not having communication skills. Planning is extremely crucial, and should be divided equally. When teachers work well together, students respond enthusiastically. (Sorenson, 2002)</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Hypothesis</a:t>
            </a:r>
            <a:endParaRPr b="1" lang="en-US" sz="7200" spc="-1" strike="noStrike">
              <a:solidFill>
                <a:srgbClr val="006666"/>
              </a:solidFill>
              <a:latin typeface="Tahoma"/>
            </a:endParaRPr>
          </a:p>
        </p:txBody>
      </p:sp>
      <p:sp>
        <p:nvSpPr>
          <p:cNvPr id="102" name=""/>
          <p:cNvSpPr txBox="1"/>
          <p:nvPr/>
        </p:nvSpPr>
        <p:spPr>
          <a:xfrm>
            <a:off x="1676520" y="1320480"/>
            <a:ext cx="6883200" cy="167652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Collaborative Team Teaching will increase learning achievement of 26 students in 5</a:t>
            </a:r>
            <a:r>
              <a:rPr b="0" lang="en-US" sz="2000" spc="-1" strike="noStrike" baseline="30000">
                <a:solidFill>
                  <a:srgbClr val="000000"/>
                </a:solidFill>
                <a:latin typeface="Maiandra GD"/>
              </a:rPr>
              <a:t>th</a:t>
            </a:r>
            <a:r>
              <a:rPr b="0" lang="en-US" sz="2000" spc="-1" strike="noStrike">
                <a:solidFill>
                  <a:srgbClr val="000000"/>
                </a:solidFill>
                <a:latin typeface="Maiandra GD"/>
              </a:rPr>
              <a:t> grade at Caroline G. Atkinson School in Freeport, New York.</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Picture 6" descr="teacheratdesk2.gif"/>
          <p:cNvPicPr/>
          <p:nvPr/>
        </p:nvPicPr>
        <p:blipFill>
          <a:blip r:embed="rId1"/>
          <a:stretch/>
        </p:blipFill>
        <p:spPr>
          <a:xfrm>
            <a:off x="3168720" y="3191040"/>
            <a:ext cx="1646280" cy="1091880"/>
          </a:xfrm>
          <a:prstGeom prst="rect">
            <a:avLst/>
          </a:prstGeom>
          <a:ln w="0">
            <a:noFill/>
          </a:ln>
        </p:spPr>
      </p:pic>
      <p:pic>
        <p:nvPicPr>
          <p:cNvPr id="104" name="Picture 7" descr="teacherdeskread.gif"/>
          <p:cNvPicPr/>
          <p:nvPr/>
        </p:nvPicPr>
        <p:blipFill>
          <a:blip r:embed="rId2"/>
          <a:stretch/>
        </p:blipFill>
        <p:spPr>
          <a:xfrm>
            <a:off x="5124600" y="3198960"/>
            <a:ext cx="1641240" cy="1027080"/>
          </a:xfrm>
          <a:prstGeom prst="rect">
            <a:avLst/>
          </a:prstGeom>
          <a:ln w="0">
            <a:noFill/>
          </a:ln>
        </p:spPr>
      </p:pic>
      <p:sp>
        <p:nvSpPr>
          <p:cNvPr id="105" name="Rectangle 9"/>
          <p:cNvSpPr/>
          <p:nvPr/>
        </p:nvSpPr>
        <p:spPr>
          <a:xfrm>
            <a:off x="1849320" y="5038560"/>
            <a:ext cx="6969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a team plays as a whole determines its succes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be Ruth </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3:45:16Z</dcterms:created>
  <dc:creator> </dc:creator>
  <dc:description/>
  <cp:keywords/>
  <dc:language>en-US</dc:language>
  <cp:lastModifiedBy> </cp:lastModifiedBy>
  <dcterms:modified xsi:type="dcterms:W3CDTF">2008-10-15T20:38:04Z</dcterms:modified>
  <cp:revision>127</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